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7CA-A481-48FC-A5D9-E817F66F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FFB-A80A-4B43-B744-AFE28F81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09557-B5C5-4D27-9294-45B24000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76BFA-AEC1-4BF1-B70B-1C7F3865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D1039-36AC-40FD-AF15-D271A8A0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00DD-101F-4BF3-A75A-3DA60B2C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1360-05AD-4A94-8092-7516F9FC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72D8-485B-4846-9A3B-255B31B9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8BCB8-E025-4A4D-8E4C-9E128AA2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9D924-3CAF-4769-85CE-F0D4F1B5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1AD0F-A893-4198-B4AF-22189F6C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ED90B-F152-425A-8157-2E1D1512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DAEE-BFA8-462D-8358-E1866DDD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563F5-EE25-4B15-AE3C-4843C809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E34BB-9EDE-4B4E-8457-14D2BE4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D983C-713F-41E2-B7A0-40DFFC54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70C2E-3C84-49E6-9D8F-3DFC5B67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DB29-C796-4160-96D6-EDB7CEA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AA7D5-3356-4100-B99E-6CB71AA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E5BA3-9D61-4E9E-B7F0-7C3517D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09870-CC50-4765-86C9-69C37CB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F6562-614B-45EF-94C9-4DAC6337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C029D8-AF0E-4522-9848-5509F2DF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62E-4387-4B2D-8655-0EA674DC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F5E75-F37C-4FFE-BC12-5CE18F0C4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DA553-71B8-4882-9EBA-2F6F63DC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6502D-F14E-4EE9-82A9-6AB796DF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3CC72-69E6-46A3-9669-6CA1A3B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C7B9E-8954-48E6-AA08-07C39889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EFEBB-EA7F-4D89-9519-C4FD69B5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0C9AC-D268-424D-9F1A-B32CCF3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73CDF-0CDE-43B6-A580-22C742F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D6121-3109-4204-9F26-7CFAA87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0C2E-D073-4F5D-8CE0-796A949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7734-F8CD-4A82-9262-82E7E7CC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99ACE-CF76-4653-96E8-ED70205A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CEA3C-20E8-4AC3-87E3-4C73C14E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A2A01-B8A2-48C6-91BD-245528C9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64D54-2201-4133-B82F-D2776DE4B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7833C-8508-40E4-91E1-4BF2510A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7421D-8986-40C1-8111-D0FF5BF6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7A248B-894A-4933-8220-5DB48137E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E2F6B-4C3B-4CC2-9704-A855E684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2390C-5425-4C2A-B3E4-E3C485C9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E555E-ACE5-4E55-BE99-D5263BF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300C-5569-4C65-8968-B98E6E6D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86440-190E-48A6-8123-2A402161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F6DA9-5AAE-4088-950F-313D9C1F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E1227-7FB3-47B4-BE31-5B1C6B09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BD8AB-BD62-41BF-8131-401B4179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4EC0-8968-4AA7-B791-5513BAB8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9F70C-AF6D-435F-B5EE-13CC76AF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EFE92-D97B-4030-B5C0-452A7A38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B3A227-B7FA-49C8-BA83-8D5EBB31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0227A-3060-4340-89B4-E7BC74B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08315-65A4-4617-BE4D-F0375569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CED6-0A95-4A1B-8A11-DB6ABCEA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B68A5-DD13-4E8D-BF2B-6C535E04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21787-EF61-4E29-8C45-EE28720E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296E7-F26B-4AB8-BC25-6585F0D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DE733-9544-473F-ACC6-01C8EE2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0E394-F71C-438E-9043-144FCF45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A7E3C6-5F5F-4013-83F6-C16EEAEA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1EF6A-B1CE-4FC1-BA90-ECD498E4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959A7-2A70-4ABB-A1A0-B4D85121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7E84F-81A6-4630-994D-D6AE2A6E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5F7C43-BE84-4F08-888B-9AC30DDE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E523-39F7-4231-9A72-0E3A76E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2D055-262A-4253-AECC-705E239F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5BBC4-77FA-4483-8C70-B2766480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980DF-3195-4C23-985E-D05E3963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15BBB3-91AB-44E8-AB66-9C98D947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C36C6-A330-47C5-93DD-C0709C9B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BBDAE-3520-41A4-ADF8-E0FC00A0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66486-7B61-4994-90E1-47B7448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6B53ED-BDE6-4BCB-AAC2-E4F47AF0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812DA-B576-409E-9351-B54E708F3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93839B-98DC-4D7A-A88B-7B574265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6528-A9D3-4000-9E2C-A6895FE4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047DB-2733-48FC-A8C7-CEA7CCC1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2F56E9-2C1D-4BF3-B2E1-9B38DD30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034E32-12EF-4C19-845C-40D8746A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C8C571-66F9-446D-A17A-3FD2B9FF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E4FA8-7008-4D6F-9FB8-F17A2617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10D8F-ECEA-4AE6-8896-4727B390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F1DF1F-5683-475D-B680-5630EE3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391F1A-240E-4FAE-BD96-8AA937B2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8253F6-BA6E-4781-9B2F-75BDCBF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ED6B9-EB32-4037-9918-A6F1F0C4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DC9B-10DB-4F0F-A366-A9A2614D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48D3C-0CBF-472F-A4CD-65A205CB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AF74D-986B-4EDC-8FA5-5BA986F3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DA89B4-8319-4559-AAA0-CF6C2D5A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73610-4578-4C37-9728-530F0FB0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3C6B6-B4B5-4185-A04B-7F82A669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45CAA-94E3-489C-9CDB-330FE5B2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F1AF9-82AF-429A-9D84-FD096689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384F89-6BE9-435E-93BF-1B68E706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B63B0F-CCD5-489D-BD42-9CEF7743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7A4A9C-78CC-4100-AB3E-FABD1DA9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772A-441A-49DB-879C-A712A84E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A6352-E95B-4A27-8749-A8476D70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B005ED-C8A5-4F39-8FB3-D52458B0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E0F6EB-3096-441D-8A59-B3A9A61A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F947F-6A97-4C82-B7FA-6D418963B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35F05C-0911-4B53-A7DF-66145BA7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BACD2-15D0-4172-90D1-8AA7A20D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30274-B501-4196-BAE2-BA881259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75541-D9AA-48B9-91E3-0A8D2C67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B3B74-6B1B-479C-9813-2DE631CE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5F5B56-E1A6-4FA0-BBDC-0FF92A5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8B1A-DCA1-403C-909F-75F6B166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6DE7-3B63-41F1-A928-4B80BDA1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B36F1-7DC0-4A5A-8904-973B5E4D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6A824-F506-4FF5-B5B0-0169B64D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08D3EA-E955-4D98-98CF-A3E3C854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BA9A4-B615-4828-A6BF-E588A831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7966CE-6D07-4BD3-88BB-F7575D64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EBC9E-F70C-4BDC-A39A-455A0401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2882EA-5CAC-431D-93AD-564520AC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B5CF58-7E26-46FD-9192-4579E1A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1E1C36-61DD-4E40-B4D8-23C4F932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6D061-4E72-449E-9008-E544B91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54BA-D703-471A-8D24-248A9A6E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1B74EA-90CE-4C8E-A2CE-03F3BCF4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C67C8-CFF4-43BA-912B-D2958C7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631BEC-9AAC-42E4-A658-F5EB958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024E1-E247-49E0-8B5C-D0AAB5D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EC02FE-48AC-4F95-A5C9-A2101FB8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4DB419-DF3C-4137-B519-9A2835D8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3AD6D3-C308-464B-928E-7A0D2AFE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71FE8-7358-457B-9B55-6E2118B5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FB197C-D965-4BC2-9C1A-8A90EA26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3DE750-24FF-4AB1-8258-51480BBF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5CAB-7DAF-472F-BA77-6F87DB2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5CF88C-5DBA-48B0-B916-1B678245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AA2A0-4A16-4F81-A383-EEFD442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0CA6D5-8B54-4276-B290-3C424708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7E0805-FB3C-4F77-AA9D-99E5B89D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485AE8-7086-498E-94B0-FF8E4F7E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32643-F72E-4B9E-9EF1-AA49AD2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81107-68D0-4DFC-A343-A1B130A6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FC19A-1BC6-4565-AEA6-BD4AE765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17A8F-3374-4D73-A316-ACAFAF71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29BB6E-BB3C-4672-BB35-620B1405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7B73-E01A-4458-BAAF-A8664AE4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6E0DF9-9A82-489E-9E12-C36C9FF7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E9D49-B0D3-477F-ABE6-A74E5DC9F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BAEE3-FD3F-4DEA-9272-2D61B591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C69B80-7562-41B0-9D49-9F88BDD9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0E1D1A-ACD6-4C15-86CE-9649BC7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DDDE61-093C-461E-8DE5-E5351035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ECDD4-0C7D-4075-8FA8-440C1E54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8C8D9E-04E0-4D65-B3C0-87F28902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3D159-E0FA-4E97-A6B4-32B2F726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8FC2A5-3341-4CFB-851D-8AD60180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0167-D505-45D7-AE7D-90713B0A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7F5B95-B1A2-4472-84EB-88C52097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4CE2C3-F68C-4DC0-BEA2-8880215B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F7E64-951F-4095-8818-226CA408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62EDCF-6EC0-449F-8563-14BCBDEF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A4BF1A-630E-41A7-AFA6-967A45C3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E5B113-0E17-47F7-AEB2-9F7CE417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CB34D2-5E8C-47E5-95FB-F39E6880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10340-C207-4D38-AD83-C47041D6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727231-D1B3-437C-A8F9-59F5F80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D3C429-BD4B-4D36-8A0C-76AD061D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A9B10-93CE-4F82-9F51-D11621A0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C197AF-E82D-4934-8338-B195E154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F5B28E-54C6-4547-A43D-5BE9DFAC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0644E5-3E05-4D74-9F4B-7ECE340E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CEAAC-E445-48DB-B280-FB982592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53975-F512-4CB2-AD55-6B974EB6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2CAB21-DF6B-4C23-A54D-178569EE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04815D-1505-4BD7-81B3-1130DD2B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60577F-8C3B-4952-AB2F-DBD65E94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4D3BDC-979D-4A5B-8D54-B82A1B3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AB61A-466F-49D4-A6C2-CB10A1F9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27EE-E6FD-4959-B589-10445098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4DA623-B885-4386-83C8-C3F09F1F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13A9E8-DD7D-4E54-9447-45B2A27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3DC3A7-D0F5-4135-A049-4C8408A2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1AB883-C944-4AFA-BB51-91B498CA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ED97B-7F54-4EB9-A21C-A5E4D4E7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8850-E198-4280-8267-F58F2C8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CC3BE-10F7-4F0F-BB9F-BB21495B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3115-6CD3-42D9-BA9D-28D37C8B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33A-C76A-460E-AA88-D4688B3E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79FC2-9DA2-418C-BBC2-E2494FDB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3DF3C-396D-40FF-B7C2-B435A2A1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C3938-B4E4-4AAB-9E43-71A116E2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C653-D3EF-43B4-B6EF-18C7FEC4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1D4FF-172A-4925-9656-D4C3FC9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E481-98B1-4F98-929F-C669FAE2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CA765-EBB9-4BF7-BD05-AC2AC3F6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2B10-73FC-48BF-89C0-E08FF642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70CBD-B68A-45F1-8AA1-ED34907A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FDF6-6B6E-433B-B319-A805DA90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DC7-BF50-493E-867B-44E6E553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EB773-89F6-4C0F-A42B-82FD2D1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4BA83-E77C-467F-81F6-6BA5A423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D331-8C66-4FC8-866E-45D4216B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9A30A-B073-4C7B-A892-F82E6C1E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897DF-AF13-46D7-B10D-1438EC3D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1C42B-0440-4031-A861-1A6A4F6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6193E1-E7B2-41B6-9C69-78E94575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01B1-F576-424D-9012-D304C4B7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3BA4-3B32-4AB7-8883-B5C1A0A4D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EDE7C-A780-4D49-BE03-38F2CE07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6B4-9A01-4F94-BECD-51D87A4D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25584-9BC3-4BEC-86FF-3C65824C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F9527-1A51-4ED7-96FC-E2A43A20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A538E-3E1E-47D4-A4CA-D6D9ED51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09E3C-3CD6-4951-9C25-3A1AC4B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1B8A5-F94D-4F28-BB64-AD8CE95A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7B98C-3E40-4A7C-BB03-DB53BA2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FA41B-0F77-43CA-BA1C-DE883186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B1C9D-AC40-43AE-A920-16BB94C2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33CE-8D4F-4F67-8E15-80E293B81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B2DD2-554C-4494-A28B-D6A33F8E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A549-4542-40A3-870D-AFDA83F72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842B0-FD86-44E1-9EC9-2514BE35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7D25D-4DA2-4B65-9F16-B4D858000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B4A4-B288-4EBE-8DE3-3E6C78C2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F521D-4340-42B8-87B6-14C5B25D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8E891-B40F-4509-9C67-5C095F80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57B2-7A60-4435-8692-48488416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E4F78-C019-4E1C-8176-47C11C59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5F828-1C93-4453-B157-9E5C127D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003B-AFAA-45A5-BED3-BF56F051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65ECE-7BD6-4ACD-A6FE-9C76ACAF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4F00-6BE2-49C4-B963-8F40ABB0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EBBE4-8748-4D27-952B-D6526714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6D0C9-410C-41AB-A8AC-90BF6B916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97CE5-1AE6-4C73-8264-15310390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01706-BC61-406A-9C28-7C3954DAC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15265-2F43-41F6-83C4-50F81EB9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86BDD-F0B8-4C23-AC85-76712CFF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B1A8F-9E38-490D-948B-8C221758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EF69-C7CF-48C4-880D-E40CD71A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65948-F826-423F-919E-B108ACBB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7C471-E52A-4637-97AE-90596780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382-D2A3-4034-894A-1540723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6959A-6083-41ED-9D84-D892DF0D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001C-242F-4264-87D9-C68E0A43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4DC9F-F53F-4D3E-B195-DD4002D5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C4FBE-BBC2-481F-9DB2-27C617F8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1FF7C-A9C0-499B-ABD8-381EA200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A9791-C47A-4628-8B24-BA7859D7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C3FDF-ABAB-4930-9436-F024D434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FFF56-D5EB-4DC6-8631-3B5DF2BF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9B6C-3891-4C2C-9F8E-C52BD14F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76496-61CA-4528-816D-681F890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15D0-19CB-458B-B4EE-CF1F71BA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EAF3B-76EA-4FEF-ACA2-B2958D67D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8D4FD-985F-425E-94C8-3DEA299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09CF-E2D5-4FD2-9832-08B692EC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62F23-6B0A-4851-92CA-31B06424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CC5F-16FB-4431-9694-466763C6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A8691-5322-492C-9D92-CB16E9BC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DFAA-F733-4353-8A10-A70B2076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59265D-E3C7-4EBE-94A4-4E64FEB8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0F85E-DA5E-4522-B50E-9FAEE8A9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D7DDD-5C50-486E-AC65-7F818F4B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B889-1E78-448C-B688-F520CD2C88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17B4-151D-4D8B-A9DB-16616C5C92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4912-44DA-4667-A016-8AF02A43BA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7C86-4FD1-49F0-803F-3CC19638DF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CC10-0556-4F22-BDD8-DBEC3AE36E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451A-D329-44F2-80CC-3103B2E06E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13CA-6B23-43C4-BFDE-EBFF30E35A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9130-DD48-44CC-824B-FDF5123B1F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CEA0-48D5-40D1-B72E-0901777E6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1BD0-C0BE-478E-A434-2FEB343B3C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C333-0491-4655-9D6B-3297C1B741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DEE9-73CD-4A34-8E20-AA8133B9D4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B4F3-2E62-4473-AF58-F6435786EF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F82A-3765-4053-9DE9-5A9F9E09FF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072B-FCE1-4667-869F-C4D6BD335E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6CE84-0837-410E-BEC3-BF6E2F23B4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595-4FB4-435B-A328-805099883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930B-C0C0-47DD-83D2-F3CA44352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DC35-56F8-4F65-8217-D1B9E7362B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AC3C-30B1-421F-8594-99611C74E3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652-3301-44EA-8B15-95FE1B33C7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676-0782-499B-BCF6-FAB9EA9702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EE22-7058-4A8A-92E9-856498FF1F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F74F-4F47-43E2-9357-2A0AB92695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E750-4D64-4C2C-ADC4-0DF856E7F9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5403-1797-44CE-AD96-1C20E642A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6BA1-6C69-42BD-B0E1-B2D8EC2604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E37E-C426-4C50-94A5-8FB2B97D3E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83C1-9491-4708-BFA5-4FAFB95E51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7F0A-CC6F-46AC-97EA-AACCE205C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71DB-30FA-4E4C-8563-1515D5023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2008-4C81-496B-81F1-8E7E7D1F53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8F69-E1D6-478A-B45B-63FC679618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4A54-7BEC-46CF-A36A-5F8558E6B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18AD-6ED1-42DC-AE3C-C73F66DE2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9F09-7DD4-4311-8049-14AE75D60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FCC1-B7A5-4F06-A59F-021136FCA9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3C37-26A5-49E9-8934-519FDBEC26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3A44-9E7A-4263-ABE6-C49CD3DFEA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807B-E008-4763-AC75-4FFF4B478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B73B-77DA-4A2B-ADE5-220B8CCD3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467080" y="3176640"/>
            <a:ext cx="420984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181080" y="1523880"/>
            <a:ext cx="8781840" cy="38102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965240" y="265572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1965240" y="321300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2152800" y="377496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5032440" y="26510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5032440" y="3213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5234040" y="37609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8101080" y="2637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101080" y="3213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8288280" y="37749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1835280" y="458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4067280" y="458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6213600" y="458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8359920" y="458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183528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3938760" y="49561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6213600" y="494172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8359920" y="4941720"/>
            <a:ext cx="35856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1" name="组合 7171"/>
          <p:cNvGrpSpPr/>
          <p:nvPr/>
        </p:nvGrpSpPr>
        <p:grpSpPr>
          <a:xfrm>
            <a:off x="233280" y="966960"/>
            <a:ext cx="8677440" cy="5486400"/>
            <a:chOff x="233280" y="966960"/>
            <a:chExt cx="8677440" cy="5486400"/>
          </a:xfrm>
        </p:grpSpPr>
        <p:pic>
          <p:nvPicPr>
            <p:cNvPr id="982" name="图片 7169" descr=""/>
            <p:cNvPicPr/>
            <p:nvPr/>
          </p:nvPicPr>
          <p:blipFill>
            <a:blip r:embed="rId1"/>
            <a:stretch/>
          </p:blipFill>
          <p:spPr>
            <a:xfrm>
              <a:off x="233280" y="966960"/>
              <a:ext cx="8677440" cy="548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图片 7170" descr=""/>
            <p:cNvPicPr/>
            <p:nvPr/>
          </p:nvPicPr>
          <p:blipFill>
            <a:blip r:embed="rId2"/>
            <a:stretch/>
          </p:blipFill>
          <p:spPr>
            <a:xfrm>
              <a:off x="942840" y="1341360"/>
              <a:ext cx="7589880" cy="271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4" name="直接连接符 7172"/>
          <p:cNvSpPr/>
          <p:nvPr/>
        </p:nvSpPr>
        <p:spPr>
          <a:xfrm>
            <a:off x="2411280" y="1773360"/>
            <a:ext cx="1297080" cy="129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直接连接符 7173"/>
          <p:cNvSpPr/>
          <p:nvPr/>
        </p:nvSpPr>
        <p:spPr>
          <a:xfrm>
            <a:off x="2397240" y="2421000"/>
            <a:ext cx="1296720" cy="129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7174"/>
          <p:cNvSpPr/>
          <p:nvPr/>
        </p:nvSpPr>
        <p:spPr>
          <a:xfrm flipV="1">
            <a:off x="2411280" y="2420640"/>
            <a:ext cx="1297080" cy="6620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7175"/>
          <p:cNvSpPr/>
          <p:nvPr/>
        </p:nvSpPr>
        <p:spPr>
          <a:xfrm flipV="1">
            <a:off x="2411280" y="1700280"/>
            <a:ext cx="1297080" cy="20304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7176"/>
          <p:cNvSpPr/>
          <p:nvPr/>
        </p:nvSpPr>
        <p:spPr>
          <a:xfrm>
            <a:off x="6991200" y="1773360"/>
            <a:ext cx="1325880" cy="1942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7177"/>
          <p:cNvSpPr/>
          <p:nvPr/>
        </p:nvSpPr>
        <p:spPr>
          <a:xfrm>
            <a:off x="7020000" y="2421000"/>
            <a:ext cx="1224000" cy="647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7178"/>
          <p:cNvSpPr/>
          <p:nvPr/>
        </p:nvSpPr>
        <p:spPr>
          <a:xfrm flipV="1">
            <a:off x="7005600" y="2421000"/>
            <a:ext cx="1311480" cy="720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7179"/>
          <p:cNvSpPr/>
          <p:nvPr/>
        </p:nvSpPr>
        <p:spPr>
          <a:xfrm flipV="1">
            <a:off x="7005600" y="1773360"/>
            <a:ext cx="1311480" cy="2016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2" name="图片 7180" descr=""/>
          <p:cNvPicPr/>
          <p:nvPr/>
        </p:nvPicPr>
        <p:blipFill>
          <a:blip r:embed="rId3"/>
          <a:stretch/>
        </p:blipFill>
        <p:spPr>
          <a:xfrm>
            <a:off x="5003640" y="5991120"/>
            <a:ext cx="2705400" cy="4478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7181" descr=""/>
          <p:cNvPicPr/>
          <p:nvPr/>
        </p:nvPicPr>
        <p:blipFill>
          <a:blip r:embed="rId4"/>
          <a:stretch/>
        </p:blipFill>
        <p:spPr>
          <a:xfrm>
            <a:off x="1346040" y="5962680"/>
            <a:ext cx="20196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图片 8193" descr=""/>
          <p:cNvPicPr/>
          <p:nvPr/>
        </p:nvPicPr>
        <p:blipFill>
          <a:blip r:embed="rId1"/>
          <a:stretch/>
        </p:blipFill>
        <p:spPr>
          <a:xfrm>
            <a:off x="466560" y="1933560"/>
            <a:ext cx="8210880" cy="2990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"/>
          <a:stretch/>
        </p:blipFill>
        <p:spPr>
          <a:xfrm>
            <a:off x="2887560" y="3755880"/>
            <a:ext cx="258840" cy="2304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3"/>
          <a:stretch/>
        </p:blipFill>
        <p:spPr>
          <a:xfrm>
            <a:off x="1849320" y="4379760"/>
            <a:ext cx="258840" cy="2304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4"/>
          <a:stretch/>
        </p:blipFill>
        <p:spPr>
          <a:xfrm>
            <a:off x="2195640" y="3773520"/>
            <a:ext cx="258480" cy="23004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5"/>
          <a:stretch/>
        </p:blipFill>
        <p:spPr>
          <a:xfrm>
            <a:off x="5378400" y="3759120"/>
            <a:ext cx="258840" cy="23040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6"/>
          <a:stretch/>
        </p:blipFill>
        <p:spPr>
          <a:xfrm>
            <a:off x="5997600" y="3127320"/>
            <a:ext cx="258840" cy="23040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7"/>
          <a:stretch/>
        </p:blipFill>
        <p:spPr>
          <a:xfrm>
            <a:off x="5997600" y="4365720"/>
            <a:ext cx="258840" cy="2300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8"/>
          <a:stretch/>
        </p:blipFill>
        <p:spPr>
          <a:xfrm>
            <a:off x="6948360" y="4422600"/>
            <a:ext cx="180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4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